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F78-680E-421B-AA28-878E0880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2F6-C2F3-4862-B779-579FCCC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F67-1A8B-4E87-986B-6909FFC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93D-7DBD-4F01-8E14-C1DCA135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F61-436A-4F7B-94B9-557E2C1F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D3E-5F2E-4638-80F4-E41CF32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340-B1D9-4175-9799-3AA3E15F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978-334B-4E67-81EC-E9313D3D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9A5-4BCF-4E20-9AF4-EE685E7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46A-9FB4-4405-AD27-9DFF9418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6E5-BFA2-4473-9A55-4B6DC23A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76D-56B2-400A-B133-2B38498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039-144D-4FBF-B41A-C8EFFA6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7E3-5F0F-4C9D-8F0A-8D846C765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E82qtKSSH4&amp;feature=endscree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3-04-03T09:12:58Z</dcterms:modified>
  <cp:revision>30</cp:revision>
  <dc:subject/>
  <dc:title>PowerPoint Presentation</dc:title>
</cp:coreProperties>
</file>